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0F0A-D4A1-45EC-BC93-74F9B110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849D-5598-4F6C-9258-B1C5F0E2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21A0-9611-431D-9336-6970344E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BB6D-F6CC-4CFB-8AD7-04605366B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1356-260A-4EB1-ADC7-16B8363A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55CA-B093-45CA-BFF4-9BE18D88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AB2BE-4A3A-4FE6-B3D9-8D28137E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5C8F-2C0C-405F-AAF2-172B03631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EEB7C-9CCA-4FE7-B671-9C6B93B8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C587-D1E1-429D-8EE0-ED5B637D9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3F16A-337E-470F-A144-6673BEA2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80A-4AA3-434D-9913-53BF4D25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9CB7-DD0F-42F0-B6BC-DB496B29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DC65-B958-43E9-99DF-7B25C54C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422D-1CBA-41C0-A530-01312308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1002-BF46-422A-8487-3853EC0AE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3A82-3CE3-4E2A-B4CB-25DE93D6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8FC5C-0563-4B72-9F72-DA9FEDF24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13505-6A5A-4445-8274-7F8ABEB5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75109-C54D-4B89-AE28-4F51FE6B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AA3907-4C27-4559-B5FA-5B11BDD9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8DD0C-0610-4401-B769-0F220154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03F0-3D60-4EFF-B3E0-7C370182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3FD6C-E2F0-4BBC-9180-4E9D9B79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44CED1-0809-40B0-ADD5-257769FB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C89B31-21E3-4570-B64B-7DB2FA68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512BA5-52B7-4274-A865-E6015852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DE032C-A4DC-4CE6-A529-02281FC36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9CAE5E-730B-43E7-8E19-9631AD763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0E151-D5FD-4A39-8CD8-1A4A3ADE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81CA6-4801-4B1B-ACC6-D6FA0597E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CFB3A-1224-4045-8E49-F76B0610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91B93-1115-4FDB-8547-8B6F5246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9B4-766F-43C5-8DFA-A7F7EE73A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6E6E7-50A6-495C-8C1F-17F5523D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62876-4F60-4B0A-A22A-4F443F3F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83277-D4A3-4831-8EE6-5CC4D792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1FA6E-69F1-4A04-9865-95F30C09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0F493-F0CE-4DE8-A82B-C81001AB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8CB5D-3252-4F1B-B600-62C4F679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1A82D-C03B-494F-925C-0197FA8D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922C5-2423-486C-948C-61E48ECB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BB11C-DB7D-4190-A743-B6D0F2B37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7D5C-093B-4FB3-BE0E-49A9FC940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8B3-5D12-46B9-8F5B-B381D98F8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08BE-740F-4E1F-8F10-6312FE22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0F1-F894-44BC-9ECD-FC122B02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6326-94C2-406C-86F2-CEEDA38C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CE30-11C4-493E-8040-024A978AE0A8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4087-8ADC-435A-8F8D-960DD0B17786}" type="slidenum">
              <a:rPr b="0" lang="ru-RU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FC73-6173-40F7-8798-746B498A3875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991D-2194-4C16-9641-61930DBE4121}" type="slidenum">
              <a:rPr b="0" lang="ru-RU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4321440" cy="170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Gothic"/>
              </a:rPr>
              <a:t>Занимательный урок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539640" y="3716280"/>
            <a:ext cx="7777440" cy="20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Урок-вечер </a:t>
            </a:r>
            <a:r>
              <a:rPr b="1" lang="ru-RU" sz="3200" spc="-1" strike="noStrike">
                <a:solidFill>
                  <a:srgbClr val="424242"/>
                </a:solidFill>
                <a:latin typeface="Century Gothic"/>
              </a:rPr>
              <a:t>«Учёные-педагоги»</a:t>
            </a: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, 7 класс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Презентация урока учителя физики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242"/>
                </a:solidFill>
                <a:latin typeface="Century Gothic"/>
              </a:rPr>
              <a:t>Кузьминой Л. В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7" name="TextBox 1"/>
          <p:cNvSpPr/>
          <p:nvPr/>
        </p:nvSpPr>
        <p:spPr>
          <a:xfrm>
            <a:off x="4932360" y="42876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МБВ(С)ОУ   «О(С)ОШ №1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entury Gothic"/>
              </a:rPr>
              <a:t>Г. Калуг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Экспериментальное: «Динамометр» – 10 баллов. 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42560" y="2313000"/>
            <a:ext cx="341964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Дано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силу тяжести,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массу бруска, объём  бруск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5080" y="2313000"/>
            <a:ext cx="3419280" cy="34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Дано: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брусок, линейка, динамометр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Найти: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силу упругости, растяжение пружины, коэффициент жёсткости.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25800" indent="-2595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Учебник физики – 5 баллов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Конкурс болельщиков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Кто автор учебника?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Что изображено на обложке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Каково содержание форзацев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Какова структура учебника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5. Сколько страниц в учебнике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6. Дополнительно, что можете сообщить про учебник физики 7 класса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«Загадки о физиках-учителях» – 5 баллов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Подсказки: угадаете ответ с первой подсказки, получите 5 баллов; 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о второй – 4 балла и т. д.;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3e3d2d"/>
                </a:solidFill>
                <a:latin typeface="Century Gothic"/>
              </a:rPr>
              <a:t>с последней – 1 балл.</a:t>
            </a: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первая 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74898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1. Он жил в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IV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 веке до нашей эры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2. Он был воспитателем Александра Македонского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3. «Самая универсальная голова среди древнегреческих философов» (Ф. Энгельс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4. Свой принцип динамики он сформулировал так: «Всё, что находится в движении, движется благодаря воздействию другого»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  <a:ea typeface="Arial"/>
              </a:rPr>
              <a:t>5. Крёстный отец физики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Аристотель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4" name="Объект 1" descr=""/>
          <p:cNvPicPr/>
          <p:nvPr/>
        </p:nvPicPr>
        <p:blipFill>
          <a:blip r:embed="rId1"/>
          <a:stretch/>
        </p:blipFill>
        <p:spPr>
          <a:xfrm>
            <a:off x="3213000" y="2330280"/>
            <a:ext cx="26542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втор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920" y="2323800"/>
            <a:ext cx="734544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Родился в селе Деревенском на Рязанщине в 1902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Диплом учителя математики и физики получил в рязанском учительском институте, завершил образование в МГУ им. Ломоносов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Работал в школе-коммуне им. Лепешинского с 1922 по июль 1941 г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Долгое время возглавлял  и работал на кафедре методике преподавания физики в МГПИ им. Ленина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Он автор учебника по физике для 7класса, по которому вы учитесь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Пёрышкин А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8" name="Объект 3" descr=""/>
          <p:cNvPicPr/>
          <p:nvPr/>
        </p:nvPicPr>
        <p:blipFill>
          <a:blip r:embed="rId1"/>
          <a:stretch/>
        </p:blipFill>
        <p:spPr>
          <a:xfrm>
            <a:off x="3116160" y="2324160"/>
            <a:ext cx="28260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треть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1. Открыл атмосферу на Венер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2. В 1775 году при его активном участии был открыт первый русский университет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3. Написал первый русский учебник по минералогии и заложил основы современного стихосложения; руководил составлением карты России, создал мозаичные картины, изготавливал инструменты для морской навигации и построил первую химическую лабораторию в России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4. Он первым стал читать публичные лекции по физике на русском языке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5. Зимой 1731 года двадцати лет отроду, он пришёл с обозом в Москву и только здесь начал учиться.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  <a:p>
            <a:pPr marL="60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Ломоносов М. В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2" name="Объект 1" descr=""/>
          <p:cNvPicPr/>
          <p:nvPr/>
        </p:nvPicPr>
        <p:blipFill>
          <a:blip r:embed="rId1"/>
          <a:stretch/>
        </p:blipFill>
        <p:spPr>
          <a:xfrm>
            <a:off x="2930400" y="2324160"/>
            <a:ext cx="328608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4c600"/>
                </a:solidFill>
                <a:latin typeface="Century Gothic"/>
              </a:rPr>
              <a:t>Загадка четвёртая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755640" y="2323800"/>
            <a:ext cx="763272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1. Его предок был известный бунтарь Наливайко. Казацкий предводитель конца 16 века. Борец против польской аристократии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2. О себе он говорил: «Я - чистейший материалист. Ничего не признаю, кроме материи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3. С десяти лет глухота его сделала слабым и изгоем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4. О человечестве он говорил, что оно бессмертно и не останется вечно на Зем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5. Родился в селе Ижевском Рязанской губернии, а 40 лет прожил в Калуге, работал учителем и занимался наукой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3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Цели урок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Познакомить учащихся с деятельностью учёных физиков, которые в своё время работали учителями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Показать наиболее примечательные черты их мироззрения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3. Методы получения научных знаний;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4. Сформировать правильное представление о характере научного труда учёны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lnSpc>
                <a:spcPct val="9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Циолковский К.Э.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76" name="Picture 7" descr="КРОСФОРД_0002"/>
          <p:cNvPicPr/>
          <p:nvPr/>
        </p:nvPicPr>
        <p:blipFill>
          <a:blip r:embed="rId1"/>
          <a:stretch/>
        </p:blipFill>
        <p:spPr>
          <a:xfrm>
            <a:off x="3325680" y="2324160"/>
            <a:ext cx="23259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Итоги игры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e3d2d"/>
                </a:solidFill>
                <a:latin typeface="Century Gothic"/>
              </a:rPr>
              <a:t>Определение победителей</a:t>
            </a:r>
            <a:endParaRPr b="0" lang="en-US" sz="3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Литература: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1. В.А. Волков, С. Е. Полянский. Поурочные разработки по физике. М.: ВАКО, 7-9 кл. 2005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2.  Кубеев М. Н. Сто великих имён России.- М.: Вече, 2010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Дополнительно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чественные вопросы: №№ 447, 448, 412, 508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Содержание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042560" y="2060640"/>
            <a:ext cx="6777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53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1. Вступительное слово учителя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2. Задания для команд.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 первое: «Найди правильную дорогу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второе. Каждая команда рассказывает об учёном-учителе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третье – экспериментальное: «Динамометр»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четвёртое: «Знаешь ли ты свой учебник физики?»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Задание  пятое: «Загадки о физиках-учителях»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e3d2d"/>
                </a:solidFill>
                <a:latin typeface="Century Gothic"/>
              </a:rPr>
              <a:t>(Аристотель, Пёрышкин А. В., , Циолковский К. Э., Ломоносов М. В.)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   </a:t>
            </a:r>
            <a:r>
              <a:rPr b="1" lang="ru-RU" sz="2000" spc="-1" strike="noStrike">
                <a:solidFill>
                  <a:srgbClr val="3e3d2d"/>
                </a:solidFill>
                <a:latin typeface="Century Gothic"/>
              </a:rPr>
              <a:t>3. Заключительное слово учителя (итог вечера)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66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1. «Найди правильную дорогу» - 5 баллов.</a:t>
            </a:r>
            <a:br>
              <a:rPr sz="3600"/>
            </a:br>
            <a:r>
              <a:rPr b="0" lang="ru-RU" sz="3600" spc="-1" strike="noStrike">
                <a:solidFill>
                  <a:srgbClr val="94c6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В три столбика выписаны обозначения физических величин, их единицы и названия. Необходимо стрелками соединить каждую физическую величину со своей единицей измерения и названием.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1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971640" y="2324160"/>
          <a:ext cx="6848280" cy="35528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1071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619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у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/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ем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621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кор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620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4c600"/>
                </a:solidFill>
                <a:latin typeface="Century Gothic"/>
              </a:rPr>
              <a:t>2 команда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971640" y="2324160"/>
          <a:ext cx="6848280" cy="3698640"/>
        </p:xfrm>
        <a:graphic>
          <a:graphicData uri="http://schemas.openxmlformats.org/drawingml/2006/table">
            <a:tbl>
              <a:tblPr/>
              <a:tblGrid>
                <a:gridCol w="2282760"/>
                <a:gridCol w="2282760"/>
                <a:gridCol w="2282760"/>
              </a:tblGrid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Велич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Единица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Название велич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c600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ъё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Дав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  <a:tr h="739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оща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acb"/>
                    </a:solidFill>
                  </a:tcPr>
                </a:tc>
              </a:tr>
              <a:tr h="739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длин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5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6919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Биография учёного – </a:t>
            </a:r>
            <a:br>
              <a:rPr sz="3600"/>
            </a:br>
            <a:r>
              <a:rPr b="1" lang="ru-RU" sz="3600" spc="-1" strike="noStrike">
                <a:solidFill>
                  <a:srgbClr val="94c600"/>
                </a:solidFill>
                <a:latin typeface="Century Gothic"/>
              </a:rPr>
              <a:t>5 баллов.</a:t>
            </a:r>
            <a:br>
              <a:rPr sz="3600"/>
            </a:b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Каждая команда рассказывает об учёном-учителе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68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e3d2d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1" name="Объект 3" descr=""/>
          <p:cNvPicPr/>
          <p:nvPr/>
        </p:nvPicPr>
        <p:blipFill>
          <a:blip r:embed="rId1"/>
          <a:stretch/>
        </p:blipFill>
        <p:spPr>
          <a:xfrm>
            <a:off x="3203640" y="2349360"/>
            <a:ext cx="2622600" cy="34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4c600"/>
                </a:solidFill>
                <a:latin typeface="Century Gothic"/>
              </a:rPr>
              <a:t>Учёные-педагоги 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Picture 7" descr="КРОСФОРД_0002"/>
          <p:cNvPicPr/>
          <p:nvPr/>
        </p:nvPicPr>
        <p:blipFill>
          <a:blip r:embed="rId1"/>
          <a:stretch/>
        </p:blipFill>
        <p:spPr>
          <a:xfrm>
            <a:off x="3203640" y="2349360"/>
            <a:ext cx="266364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2T10:52:33Z</dcterms:created>
  <dc:creator>Кузьмина</dc:creator>
  <dc:description/>
  <dc:language>en-US</dc:language>
  <cp:lastModifiedBy>Ольга</cp:lastModifiedBy>
  <dcterms:modified xsi:type="dcterms:W3CDTF">2015-07-02T14:52:42Z</dcterms:modified>
  <cp:revision>17</cp:revision>
  <dc:subject/>
  <dc:title>Презентация PowerPoint</dc:title>
</cp:coreProperties>
</file>